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3A1-F830-471D-9BB3-610A3AC3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F3A-BA0C-4B7D-A485-929AED00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53E-3E4D-454B-9934-F75894EA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1D5-7A84-4BBD-A5C9-56F709A9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9D3-F3F4-4DDE-8CF3-F9A313EF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8C8-6B56-4F2B-9555-6C4C9E3E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9D7-1D2D-4275-ACC3-839023BB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C4F-C6B4-4336-9854-134D3DBB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768-6CF6-4446-A3A8-05B15738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1D2-78DB-45ED-BDE9-1FE749BD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6F2-CD89-4743-975F-941DE627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2B4-5899-4DCB-A1E7-B9C42062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8B0B-5C5F-4897-9C81-67D972CD1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7 de diciem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osito # 2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continuamos el repaso para el Examen # 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vide y clasifica según el número de sila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) Present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) Espír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) Proyec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7) Int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) Calav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) 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) Much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) H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) Detall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) 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- Divide, indica la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POSICION DE SILAB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encierra la silaba que tiene el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ACEN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LASIFICA SEGÚN SU AC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añer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. Juventu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fr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7. Magnífico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vidad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. Nombr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órmul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. Llamada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vorit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0. 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I- Escribe el Articulo Defin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______ Gram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______ Dibuj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______ I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______ Teor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______ Manza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569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- Escribe el Articulo Indefin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______ estud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______ Caj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______ Calcul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______ Tarj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______ Li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Arial"/>
              </a:rPr>
              <a:t>Correcciones de las Tarjetas de Estu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n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Son las letras del abecedario o alfab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es del alfab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Son las consonantes y las vo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cales abiertas o fue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Las vocales abiertas son A E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cales cerradas o déb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Las vocales cerradas son I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pto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La unión de dos vocales en una sila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ipto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La unión de tres vocales en una sila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Dos vocales </a:t>
            </a:r>
            <a:r>
              <a:rPr b="1" i="1" lang="es-ES_tradnl" sz="3200" spc="-1" strike="noStrike" u="sng">
                <a:solidFill>
                  <a:srgbClr val="008000"/>
                </a:solidFill>
                <a:uFillTx/>
                <a:latin typeface="Arial"/>
              </a:rPr>
              <a:t>separadas</a:t>
            </a: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 por una sila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ala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Están formadas por una o mas silab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ila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Son una o mas letras que se pronuncian (juntas) en un golpe de v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osíla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Una palabra que tiene una sola sila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síla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Una palabra que tiene 2 silab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isíla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Una palabra que tiene 3 silab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lisíla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8000"/>
                </a:solidFill>
                <a:latin typeface="Arial"/>
              </a:rPr>
              <a:t>Una palabra que tiene 4 o mas silab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 de síla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De acuerdo a su Posición las silabas se clasifican 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          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   -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       MIS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    -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         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|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          |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  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Antepenúltima             |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           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(APU) 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   Penúltima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  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[3rd before last]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(PU)</a:t>
            </a:r>
            <a:r>
              <a:rPr b="0" i="1" lang="es-ES" sz="2800" spc="-1" strike="noStrike">
                <a:solidFill>
                  <a:srgbClr val="008000"/>
                </a:solidFill>
                <a:latin typeface="Arial"/>
              </a:rPr>
              <a:t>                    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[before last]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        (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[las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8000"/>
                </a:solidFill>
                <a:latin typeface="Arial"/>
              </a:rPr>
              <a:t>Es poner la fuerza de la voz en una determinada sila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ento Ortográf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8000"/>
                </a:solidFill>
                <a:latin typeface="Arial"/>
              </a:rPr>
              <a:t>Es el acento que se ve y se oye. La TIL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ento Audi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8000"/>
                </a:solidFill>
                <a:latin typeface="Arial"/>
              </a:rPr>
              <a:t>Es el acento que solo se oy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g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8000"/>
                </a:solidFill>
                <a:latin typeface="Arial"/>
              </a:rPr>
              <a:t>Las palabras que tienen el acento en la ULTIMA sila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Grave o Ll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8000"/>
                </a:solidFill>
                <a:latin typeface="Arial"/>
              </a:rPr>
              <a:t>Las palabras que tienen el acento en la PENULTIMA sila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drúj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8000"/>
                </a:solidFill>
                <a:latin typeface="Arial"/>
              </a:rPr>
              <a:t>Las palabras que tienen el acento en la ANTEPENULTIMA silaba. SIEMPRE tiene TIL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1:55:41Z</dcterms:created>
  <dc:creator>Helen Zumaeta</dc:creator>
  <dc:description/>
  <dc:language>en-US</dc:language>
  <cp:lastModifiedBy>Helen Zumaeta</cp:lastModifiedBy>
  <dcterms:modified xsi:type="dcterms:W3CDTF">2011-12-07T02:32:17Z</dcterms:modified>
  <cp:revision>4</cp:revision>
  <dc:subject/>
  <dc:title>Me llamo __________ Clase 6NH La fecha es el 7 de diciembre del 2011</dc:title>
</cp:coreProperties>
</file>